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00BC-B61F-49EE-9425-06781161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83D-5674-4613-9CDA-46D8FA63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how tree is just calculating Cout; similar trees exist for each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logic depth of each adder (4 for ripple, 2 for c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048-C6B6-462C-919E-3BBD0276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5C74A-6D31-4CB9-9451-5284995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00DCF-52F7-4123-84AC-79335304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467EF4-2439-464B-ACD6-BD57529D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66DA8-8B5A-4146-9C92-DE89C72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F123F-CC42-4F31-BDCA-A5C3955B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441E64-15C5-48DB-9DC0-9F81B89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C28162-BE07-483B-94EB-4FE81B2F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DC6D5-06DF-4801-B4F6-8C0CBC86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1A78D5-9E99-464B-A608-7E14886D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EC847-982B-414B-9FF8-D3C27813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79D26-A521-425B-A463-D1E65CB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17E7F-E63C-4C37-9906-85DBF6E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8B382-0796-42E3-AD2E-C3C0F7A0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6F7C9-F538-492C-9B74-28B6531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AA4BC-8916-4917-9EE6-A3DE51A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6036D-A8F6-48F7-A1AA-FDB0E6C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1DA92-DD92-4B0E-A548-8B25A20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8EC6A-999A-4E79-9674-23CFA7A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01AE7-237C-41CA-97C4-0FDD64A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97EE8-0D7B-4F63-96A9-E508FD17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009FB-F7AC-4B8F-A12C-413CB53D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0EE991-79F9-4BC6-9A5A-C834A876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D55B7-A1D0-4381-8F69-648CC65C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681225-FDD7-42DF-91CE-DED834D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237EDC-2BD0-4E36-A956-661CF45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0C4C7-1549-4DF2-92AB-47313E3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B5A13-C54B-4F23-A5B8-94F0927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E43EDA-6BAD-4D08-B86D-C585910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63D54-CFA9-46C9-933A-4789021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D89A5-CF1E-47F5-8F7E-1542286A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5623D8-1DA8-4326-9F3F-A2C3E563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A7193E-8ADB-48AC-ACEB-52739138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80BE89-7664-4559-BCCF-D30D8CA8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D743DA-CD8D-431D-A934-014C583A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772825-8351-4BAD-BE01-00AAD88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A3E661-8B8F-49AE-A235-BF6C7F15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15D45C-D28F-454B-837C-DA8ACF1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56F762-258B-468C-BDF4-22D994A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74C08-D13C-4A17-BB16-289371D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2D992C-9183-4445-9183-5ADCA0FB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B4CB28-7B7F-4EFC-9139-BE1D6CC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80494C-2D7C-494F-8735-E961AB5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962D1-9931-48AD-BBC6-820B6DD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6F3EB8-86F3-41D0-8612-D7FE0F74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370E35-935C-437E-9525-3289D812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DE092-185D-4121-AAF9-D496F437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B307-743B-40AD-BF50-CA8E997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98A7B-849D-4F05-9A34-D18DFA55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7C3EB-40EE-4A78-9F1F-AA5C0E6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A67D-B765-4895-8FEE-80A7C5E8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CE5B9-242D-45B1-8B61-3D14695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8FBC6-9AA0-46C0-B728-0B00EDC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6050-0375-4214-BE40-F7D24A1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A289-8878-451B-9569-FFC0E37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D1EA-F6B4-4F5A-AA24-350ACC13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68BE-E7D2-4480-A045-FE9CD000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F878E-9E86-4AFA-8BCB-819B496E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7BBCD-CCFC-49BB-930B-C91F7BBF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CE7DA-AC2D-4C76-803A-FADE18F9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328AE-FA75-4AEB-9D6D-21B9E873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54B69-C038-4D97-860C-43485E88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2B8B2-DA33-4A9A-BF12-DBBD92E1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58713-B8A4-4564-8CA5-1FC3629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8B7C3-87B3-45D8-8A78-1C908E1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F23F1-4C45-488D-BF3F-D4185A8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51FBF-29B8-40D3-A3C0-C2E9966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68629-D50A-4689-84C3-4662AAB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58C62-46C4-4BCC-A6D2-6A51F89B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DD601-5979-4431-A178-094E9BC0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FB0A-4FC4-404D-B4EF-58874449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6B502-2091-44F5-BB7B-F827EF70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366AE-D469-4D27-9EA4-9D4C59A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D5A93-4C31-4ED7-814B-0482DA5B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0A115-88C6-425F-80E2-372B798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CAB3B-409D-4E3E-B3B1-95EF618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928AF-B7EE-4D08-8768-A0B9585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E636E-4D90-4921-A93A-50ACE3E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62FA4-D5C2-44AE-B74C-CC5EA264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C434C-1956-4558-99C2-798E0CCA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DDDF6-E1CA-4EE4-9095-80F8838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A566A-A46D-48ED-9AC0-ABA0AA13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431E0-5042-4C2C-841E-A85ED34A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07075-FA48-4C02-BA3E-FB60522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835DB-A28A-441D-9FBD-B195456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215DF-0B1A-401D-8DB4-7A09EB10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9C5BB-BF7F-4416-81CB-8A5AD50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642B3-DE42-4C33-BE96-CC39451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FE2C3-6B63-465A-B14A-55F21C8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0FAD2-9179-4348-9D13-7889592D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55717-DC41-45BE-8DCC-DD8B032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03807-AAC8-4980-AC77-0F02F17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73C0C-04E5-4800-BCFF-03319C44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8FAF2-80FD-4B39-B1AB-EBBA066B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77F67-8CD8-431B-8692-323FD15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F44E4-3434-4150-9707-30B5D498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FEB77-4E3D-4254-9454-F9DEEDAD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EE004-B481-427B-96A4-52F5BF4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5DB9D-CC23-417C-9CEA-B6B79B76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DFB1F-5B06-4F45-A78E-36D5100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B5158-4FDA-474E-8FF0-2F1CE7B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E6BC3-F6CB-4D70-833E-E0607610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A93BC-6C27-43D2-8B3C-E52C365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EA84C-BBBD-4D65-ACC8-E9821B9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3142C-2131-421E-A30C-6D8056C5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32398-AF85-4A41-A9B7-AD1C5A7F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C35B4-9182-431A-B410-0BF372A7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0A14D-5CB5-4693-B0D0-D4B30F41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DBA4B-5BCE-4402-B5F5-17F9C231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D57C2-E8E4-414D-804F-740255E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B5784-1803-40F8-A3DD-BD5C6D97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3BBE2-7C60-47A5-9E32-092422BA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C39F9-0240-44B3-8D6C-F1CA18C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1A1B0-40CF-41DA-935B-6B4A240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DF5E5-9186-499B-A101-EE14E21F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0F5FE-DF7A-444A-BFC1-3CB282A1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68167-733C-4CEB-8392-3C8E1440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7EC1E-1FF6-429B-AD4E-FEA6C81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E626E-E796-46FC-B119-227BBF5A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D7EE3-939B-4AF9-A36B-ED89299E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18CFD1-76DF-4DBE-9867-9B0C656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44B-EA8B-440B-AB63-106DE84F3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412C-A344-4197-BEFE-433223168E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12D-6376-40C6-BCD7-F9748C8AA8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PLP Logo with Transparency.png"/>
          <p:cNvPicPr/>
          <p:nvPr/>
        </p:nvPicPr>
        <p:blipFill>
          <a:blip r:embed="rId2"/>
          <a:stretch/>
        </p:blipFill>
        <p:spPr>
          <a:xfrm>
            <a:off x="7086600" y="5651640"/>
            <a:ext cx="205740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0" y="5743440"/>
            <a:ext cx="2209680" cy="1114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EE2-696E-4DE0-B149-E911916F48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7763-6FD2-4EAC-B8A4-040034542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85A-A54B-4C92-9128-10B2A6F2E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B2AA-F54C-43D2-826D-CD18F5BD1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DC5-3E97-491C-AC19-963DCA4FEF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2D41-8577-4810-86D6-4F851DD4D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457200" y="60958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olg_scorange.fh.tif                                           00033A04Macintosh HD                   B5E539BA:"/>
          <p:cNvPicPr/>
          <p:nvPr/>
        </p:nvPicPr>
        <p:blipFill>
          <a:blip r:embed="rId2"/>
          <a:stretch/>
        </p:blipFill>
        <p:spPr>
          <a:xfrm>
            <a:off x="92160" y="6172200"/>
            <a:ext cx="609480" cy="620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HPLP Logo with Transparency.png"/>
          <p:cNvPicPr/>
          <p:nvPr/>
        </p:nvPicPr>
        <p:blipFill>
          <a:blip r:embed="rId3"/>
          <a:srcRect l="0" t="0" r="0" b="20377"/>
          <a:stretch/>
        </p:blipFill>
        <p:spPr>
          <a:xfrm>
            <a:off x="7664400" y="6095880"/>
            <a:ext cx="1479600" cy="762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0A5-2F3A-4680-8A57-AC351507D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Garamond"/>
              </a:rPr>
              <a:t>Adding the Superset Adder to the DesignWare IP Library</a:t>
            </a:r>
            <a:endParaRPr b="0" lang="en-US" sz="50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o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rea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DAD-774E-4A9B-8447-628315301B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Chart 6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lay Comparis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DD00-96FE-4CA4-88C3-97F518CF4B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Chart 4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65469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 Cod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704" name="Picture 4" descr="C:\Users\Stevo Bailey\Downloads\slcode.png"/>
          <p:cNvPicPr/>
          <p:nvPr/>
        </p:nvPicPr>
        <p:blipFill>
          <a:blip r:embed="rId1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705" name="TextBox 4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5" descr="C:\Users\Stevo Bailey\Downloads\script (1).png"/>
          <p:cNvPicPr/>
          <p:nvPr/>
        </p:nvPicPr>
        <p:blipFill>
          <a:blip r:embed="rId2"/>
          <a:stretch/>
        </p:blipFill>
        <p:spPr>
          <a:xfrm>
            <a:off x="4724280" y="990720"/>
            <a:ext cx="4100760" cy="25146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6"/>
          <p:cNvSpPr/>
          <p:nvPr/>
        </p:nvSpPr>
        <p:spPr>
          <a:xfrm>
            <a:off x="4724280" y="3505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1D3-CC85-4927-90EC-4984E3C855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9CD9-5B9B-4310-AE86-61EA795736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Users\Stevo Bailey\Downloads\schematic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Design Compil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4A8D-FF4B-49E0-B7AB-2FC48F3017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2" descr="C:\Users\Stevo Bailey\Downloads\schematic_close.png"/>
          <p:cNvPicPr/>
          <p:nvPr/>
        </p:nvPicPr>
        <p:blipFill>
          <a:blip r:embed="rId1"/>
          <a:stretch/>
        </p:blipFill>
        <p:spPr>
          <a:xfrm>
            <a:off x="658800" y="1143000"/>
            <a:ext cx="7826400" cy="4267080"/>
          </a:xfrm>
          <a:prstGeom prst="rect">
            <a:avLst/>
          </a:prstGeom>
          <a:ln w="0">
            <a:noFill/>
          </a:ln>
        </p:spPr>
      </p:pic>
      <p:sp>
        <p:nvSpPr>
          <p:cNvPr id="716" name="TextBox 6"/>
          <p:cNvSpPr/>
          <p:nvPr/>
        </p:nvSpPr>
        <p:spPr>
          <a:xfrm>
            <a:off x="2552760" y="54975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bit Superset Adde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Current Issue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I get VCS to simulate my adders when they include library compon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BD27-E247-4161-BF02-2282753DF4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Box 3"/>
          <p:cNvSpPr/>
          <p:nvPr/>
        </p:nvSpPr>
        <p:spPr>
          <a:xfrm>
            <a:off x="1905120" y="220968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2A7-7FC6-4F46-9803-04039D9C76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tivation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scaling exacerbates variation and reliabil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circuits have redundancy and error detection/correction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arises for robust arithmetic datapa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ndancy, re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5117-9890-4983-A40F-AB82924D19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Addition in Circuit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53341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8"/>
          <p:cNvSpPr/>
          <p:nvPr/>
        </p:nvSpPr>
        <p:spPr>
          <a:xfrm>
            <a:off x="57150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61722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6553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2578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6095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>
            <a:off x="70102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4"/>
          <p:cNvSpPr/>
          <p:nvPr/>
        </p:nvSpPr>
        <p:spPr>
          <a:xfrm>
            <a:off x="73915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5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6"/>
          <p:cNvSpPr/>
          <p:nvPr/>
        </p:nvSpPr>
        <p:spPr>
          <a:xfrm>
            <a:off x="822960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6934320" y="16765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8"/>
          <p:cNvSpPr/>
          <p:nvPr/>
        </p:nvSpPr>
        <p:spPr>
          <a:xfrm>
            <a:off x="777240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9"/>
          <p:cNvSpPr/>
          <p:nvPr/>
        </p:nvSpPr>
        <p:spPr>
          <a:xfrm>
            <a:off x="51814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0"/>
          <p:cNvSpPr/>
          <p:nvPr/>
        </p:nvSpPr>
        <p:spPr>
          <a:xfrm>
            <a:off x="60199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21"/>
          <p:cNvSpPr/>
          <p:nvPr/>
        </p:nvSpPr>
        <p:spPr>
          <a:xfrm>
            <a:off x="68580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2"/>
          <p:cNvSpPr/>
          <p:nvPr/>
        </p:nvSpPr>
        <p:spPr>
          <a:xfrm>
            <a:off x="76960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23"/>
          <p:cNvSpPr/>
          <p:nvPr/>
        </p:nvSpPr>
        <p:spPr>
          <a:xfrm>
            <a:off x="53341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24"/>
          <p:cNvSpPr/>
          <p:nvPr/>
        </p:nvSpPr>
        <p:spPr>
          <a:xfrm>
            <a:off x="57150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25"/>
          <p:cNvSpPr/>
          <p:nvPr/>
        </p:nvSpPr>
        <p:spPr>
          <a:xfrm>
            <a:off x="61722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6"/>
          <p:cNvSpPr/>
          <p:nvPr/>
        </p:nvSpPr>
        <p:spPr>
          <a:xfrm>
            <a:off x="65530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7"/>
          <p:cNvSpPr/>
          <p:nvPr/>
        </p:nvSpPr>
        <p:spPr>
          <a:xfrm>
            <a:off x="701028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28"/>
          <p:cNvSpPr/>
          <p:nvPr/>
        </p:nvSpPr>
        <p:spPr>
          <a:xfrm>
            <a:off x="73915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9"/>
          <p:cNvSpPr/>
          <p:nvPr/>
        </p:nvSpPr>
        <p:spPr>
          <a:xfrm>
            <a:off x="784872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30"/>
          <p:cNvSpPr/>
          <p:nvPr/>
        </p:nvSpPr>
        <p:spPr>
          <a:xfrm>
            <a:off x="8229600" y="1981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31"/>
          <p:cNvSpPr/>
          <p:nvPr/>
        </p:nvSpPr>
        <p:spPr>
          <a:xfrm>
            <a:off x="51814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32"/>
          <p:cNvSpPr/>
          <p:nvPr/>
        </p:nvSpPr>
        <p:spPr>
          <a:xfrm>
            <a:off x="601992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3"/>
          <p:cNvSpPr/>
          <p:nvPr/>
        </p:nvSpPr>
        <p:spPr>
          <a:xfrm>
            <a:off x="6858000" y="21337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34"/>
          <p:cNvSpPr/>
          <p:nvPr/>
        </p:nvSpPr>
        <p:spPr>
          <a:xfrm>
            <a:off x="7696080" y="213372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35"/>
          <p:cNvSpPr/>
          <p:nvPr/>
        </p:nvSpPr>
        <p:spPr>
          <a:xfrm>
            <a:off x="53341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36"/>
          <p:cNvSpPr/>
          <p:nvPr/>
        </p:nvSpPr>
        <p:spPr>
          <a:xfrm>
            <a:off x="57150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37"/>
          <p:cNvSpPr/>
          <p:nvPr/>
        </p:nvSpPr>
        <p:spPr>
          <a:xfrm>
            <a:off x="61722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38"/>
          <p:cNvSpPr/>
          <p:nvPr/>
        </p:nvSpPr>
        <p:spPr>
          <a:xfrm>
            <a:off x="65530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39"/>
          <p:cNvSpPr/>
          <p:nvPr/>
        </p:nvSpPr>
        <p:spPr>
          <a:xfrm>
            <a:off x="701028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40"/>
          <p:cNvSpPr/>
          <p:nvPr/>
        </p:nvSpPr>
        <p:spPr>
          <a:xfrm>
            <a:off x="7391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41"/>
          <p:cNvSpPr/>
          <p:nvPr/>
        </p:nvSpPr>
        <p:spPr>
          <a:xfrm>
            <a:off x="78487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42"/>
          <p:cNvSpPr/>
          <p:nvPr/>
        </p:nvSpPr>
        <p:spPr>
          <a:xfrm>
            <a:off x="822960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3"/>
          <p:cNvSpPr/>
          <p:nvPr/>
        </p:nvSpPr>
        <p:spPr>
          <a:xfrm>
            <a:off x="525780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4"/>
          <p:cNvSpPr/>
          <p:nvPr/>
        </p:nvSpPr>
        <p:spPr>
          <a:xfrm>
            <a:off x="6934320" y="2666880"/>
            <a:ext cx="137160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5"/>
          <p:cNvSpPr/>
          <p:nvPr/>
        </p:nvSpPr>
        <p:spPr>
          <a:xfrm>
            <a:off x="617220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46"/>
          <p:cNvSpPr/>
          <p:nvPr/>
        </p:nvSpPr>
        <p:spPr>
          <a:xfrm>
            <a:off x="65530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47"/>
          <p:cNvSpPr/>
          <p:nvPr/>
        </p:nvSpPr>
        <p:spPr>
          <a:xfrm>
            <a:off x="701028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48"/>
          <p:cNvSpPr/>
          <p:nvPr/>
        </p:nvSpPr>
        <p:spPr>
          <a:xfrm>
            <a:off x="739152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9"/>
          <p:cNvSpPr/>
          <p:nvPr/>
        </p:nvSpPr>
        <p:spPr>
          <a:xfrm>
            <a:off x="6095880" y="3733920"/>
            <a:ext cx="137160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50"/>
          <p:cNvSpPr/>
          <p:nvPr/>
        </p:nvSpPr>
        <p:spPr>
          <a:xfrm>
            <a:off x="617220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51"/>
          <p:cNvSpPr/>
          <p:nvPr/>
        </p:nvSpPr>
        <p:spPr>
          <a:xfrm>
            <a:off x="65530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52"/>
          <p:cNvSpPr/>
          <p:nvPr/>
        </p:nvSpPr>
        <p:spPr>
          <a:xfrm>
            <a:off x="701028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53"/>
          <p:cNvSpPr/>
          <p:nvPr/>
        </p:nvSpPr>
        <p:spPr>
          <a:xfrm>
            <a:off x="7391520" y="3505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4"/>
          <p:cNvSpPr/>
          <p:nvPr/>
        </p:nvSpPr>
        <p:spPr>
          <a:xfrm>
            <a:off x="594360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55"/>
          <p:cNvSpPr/>
          <p:nvPr/>
        </p:nvSpPr>
        <p:spPr>
          <a:xfrm>
            <a:off x="6781680" y="3124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6"/>
          <p:cNvSpPr/>
          <p:nvPr/>
        </p:nvSpPr>
        <p:spPr>
          <a:xfrm>
            <a:off x="65530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7"/>
          <p:cNvSpPr/>
          <p:nvPr/>
        </p:nvSpPr>
        <p:spPr>
          <a:xfrm>
            <a:off x="701028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8"/>
          <p:cNvSpPr/>
          <p:nvPr/>
        </p:nvSpPr>
        <p:spPr>
          <a:xfrm>
            <a:off x="6324480" y="4191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59"/>
          <p:cNvSpPr/>
          <p:nvPr/>
        </p:nvSpPr>
        <p:spPr>
          <a:xfrm>
            <a:off x="8305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60"/>
          <p:cNvSpPr/>
          <p:nvPr/>
        </p:nvSpPr>
        <p:spPr>
          <a:xfrm>
            <a:off x="77724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CLA (Prefix)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Straight Arrow Connector 61"/>
          <p:cNvCxnSpPr/>
          <p:nvPr/>
        </p:nvCxnSpPr>
        <p:spPr>
          <a:xfrm flipV="1">
            <a:off x="8000640" y="3047400"/>
            <a:ext cx="1080" cy="68652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604" name="Straight Arrow Connector 62"/>
          <p:cNvCxnSpPr/>
          <p:nvPr/>
        </p:nvCxnSpPr>
        <p:spPr>
          <a:xfrm flipH="1">
            <a:off x="7543080" y="3885840"/>
            <a:ext cx="305640" cy="1080"/>
          </a:xfrm>
          <a:prstGeom prst="straightConnector1">
            <a:avLst/>
          </a:prstGeom>
          <a:ln w="255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605" name="TextBox 63"/>
          <p:cNvSpPr/>
          <p:nvPr/>
        </p:nvSpPr>
        <p:spPr>
          <a:xfrm>
            <a:off x="457200" y="563868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64"/>
          <p:cNvSpPr/>
          <p:nvPr/>
        </p:nvSpPr>
        <p:spPr>
          <a:xfrm>
            <a:off x="1066680" y="534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x Op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5"/>
          <p:cNvSpPr/>
          <p:nvPr/>
        </p:nvSpPr>
        <p:spPr>
          <a:xfrm>
            <a:off x="60948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66"/>
          <p:cNvSpPr/>
          <p:nvPr/>
        </p:nvSpPr>
        <p:spPr>
          <a:xfrm>
            <a:off x="990720" y="14479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67"/>
          <p:cNvSpPr/>
          <p:nvPr/>
        </p:nvSpPr>
        <p:spPr>
          <a:xfrm>
            <a:off x="144792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68"/>
          <p:cNvSpPr/>
          <p:nvPr/>
        </p:nvSpPr>
        <p:spPr>
          <a:xfrm>
            <a:off x="1828800" y="1447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9"/>
          <p:cNvSpPr/>
          <p:nvPr/>
        </p:nvSpPr>
        <p:spPr>
          <a:xfrm>
            <a:off x="533520" y="3276720"/>
            <a:ext cx="53316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0"/>
          <p:cNvSpPr/>
          <p:nvPr/>
        </p:nvSpPr>
        <p:spPr>
          <a:xfrm>
            <a:off x="1371600" y="274320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71"/>
          <p:cNvSpPr/>
          <p:nvPr/>
        </p:nvSpPr>
        <p:spPr>
          <a:xfrm>
            <a:off x="228600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72"/>
          <p:cNvSpPr/>
          <p:nvPr/>
        </p:nvSpPr>
        <p:spPr>
          <a:xfrm>
            <a:off x="2666880" y="1447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73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74"/>
          <p:cNvSpPr/>
          <p:nvPr/>
        </p:nvSpPr>
        <p:spPr>
          <a:xfrm>
            <a:off x="3505320" y="1447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5"/>
          <p:cNvSpPr/>
          <p:nvPr/>
        </p:nvSpPr>
        <p:spPr>
          <a:xfrm>
            <a:off x="2209680" y="2209680"/>
            <a:ext cx="533520" cy="304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6"/>
          <p:cNvSpPr/>
          <p:nvPr/>
        </p:nvSpPr>
        <p:spPr>
          <a:xfrm>
            <a:off x="3044880" y="1676520"/>
            <a:ext cx="533520" cy="30456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7"/>
          <p:cNvSpPr/>
          <p:nvPr/>
        </p:nvSpPr>
        <p:spPr>
          <a:xfrm>
            <a:off x="4572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8"/>
          <p:cNvSpPr/>
          <p:nvPr/>
        </p:nvSpPr>
        <p:spPr>
          <a:xfrm>
            <a:off x="1295280" y="114300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79"/>
          <p:cNvSpPr/>
          <p:nvPr/>
        </p:nvSpPr>
        <p:spPr>
          <a:xfrm>
            <a:off x="213372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0"/>
          <p:cNvSpPr/>
          <p:nvPr/>
        </p:nvSpPr>
        <p:spPr>
          <a:xfrm>
            <a:off x="2971800" y="11430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81"/>
          <p:cNvSpPr/>
          <p:nvPr/>
        </p:nvSpPr>
        <p:spPr>
          <a:xfrm>
            <a:off x="3505320" y="1981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82"/>
          <p:cNvSpPr/>
          <p:nvPr/>
        </p:nvSpPr>
        <p:spPr>
          <a:xfrm>
            <a:off x="2286000" y="25146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83"/>
          <p:cNvSpPr/>
          <p:nvPr/>
        </p:nvSpPr>
        <p:spPr>
          <a:xfrm flipH="1">
            <a:off x="1904760" y="2895480"/>
            <a:ext cx="39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84"/>
          <p:cNvSpPr/>
          <p:nvPr/>
        </p:nvSpPr>
        <p:spPr>
          <a:xfrm>
            <a:off x="3124080" y="198432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85"/>
          <p:cNvSpPr/>
          <p:nvPr/>
        </p:nvSpPr>
        <p:spPr>
          <a:xfrm flipH="1">
            <a:off x="2743200" y="236232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86"/>
          <p:cNvSpPr/>
          <p:nvPr/>
        </p:nvSpPr>
        <p:spPr>
          <a:xfrm>
            <a:off x="1447920" y="3048120"/>
            <a:ext cx="0" cy="39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7"/>
          <p:cNvSpPr/>
          <p:nvPr/>
        </p:nvSpPr>
        <p:spPr>
          <a:xfrm flipH="1">
            <a:off x="1066680" y="34290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8"/>
          <p:cNvSpPr/>
          <p:nvPr/>
        </p:nvSpPr>
        <p:spPr>
          <a:xfrm>
            <a:off x="2666880" y="2514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9"/>
          <p:cNvSpPr/>
          <p:nvPr/>
        </p:nvSpPr>
        <p:spPr>
          <a:xfrm>
            <a:off x="1828800" y="3048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9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91"/>
          <p:cNvSpPr/>
          <p:nvPr/>
        </p:nvSpPr>
        <p:spPr>
          <a:xfrm>
            <a:off x="609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2"/>
          <p:cNvSpPr/>
          <p:nvPr/>
        </p:nvSpPr>
        <p:spPr>
          <a:xfrm>
            <a:off x="3071880" y="164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93"/>
          <p:cNvSpPr/>
          <p:nvPr/>
        </p:nvSpPr>
        <p:spPr>
          <a:xfrm>
            <a:off x="7621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94"/>
          <p:cNvSpPr/>
          <p:nvPr/>
        </p:nvSpPr>
        <p:spPr>
          <a:xfrm>
            <a:off x="24382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95"/>
          <p:cNvSpPr/>
          <p:nvPr/>
        </p:nvSpPr>
        <p:spPr>
          <a:xfrm>
            <a:off x="160020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96"/>
          <p:cNvSpPr/>
          <p:nvPr/>
        </p:nvSpPr>
        <p:spPr>
          <a:xfrm>
            <a:off x="304920" y="3733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7"/>
          <p:cNvSpPr/>
          <p:nvPr/>
        </p:nvSpPr>
        <p:spPr>
          <a:xfrm>
            <a:off x="327672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8"/>
          <p:cNvSpPr/>
          <p:nvPr/>
        </p:nvSpPr>
        <p:spPr>
          <a:xfrm>
            <a:off x="228600" y="4191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ple Carry Addition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99"/>
          <p:cNvSpPr/>
          <p:nvPr/>
        </p:nvSpPr>
        <p:spPr>
          <a:xfrm>
            <a:off x="2239920" y="2176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00"/>
          <p:cNvSpPr/>
          <p:nvPr/>
        </p:nvSpPr>
        <p:spPr>
          <a:xfrm>
            <a:off x="1407960" y="271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01"/>
          <p:cNvSpPr/>
          <p:nvPr/>
        </p:nvSpPr>
        <p:spPr>
          <a:xfrm>
            <a:off x="557280" y="3246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2"/>
          <p:cNvSpPr/>
          <p:nvPr/>
        </p:nvSpPr>
        <p:spPr>
          <a:xfrm>
            <a:off x="4572000" y="56386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: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03"/>
          <p:cNvSpPr/>
          <p:nvPr/>
        </p:nvSpPr>
        <p:spPr>
          <a:xfrm>
            <a:off x="3962520" y="534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Calculation (not show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04"/>
          <p:cNvSpPr/>
          <p:nvPr/>
        </p:nvSpPr>
        <p:spPr>
          <a:xfrm>
            <a:off x="4952880" y="4572000"/>
            <a:ext cx="365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Parallel Prefix Dela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(lo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5"/>
          <p:cNvSpPr/>
          <p:nvPr/>
        </p:nvSpPr>
        <p:spPr>
          <a:xfrm>
            <a:off x="3962520" y="145080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106"/>
          <p:cNvSpPr/>
          <p:nvPr/>
        </p:nvSpPr>
        <p:spPr>
          <a:xfrm flipH="1">
            <a:off x="3581280" y="182880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7"/>
          <p:cNvSpPr/>
          <p:nvPr/>
        </p:nvSpPr>
        <p:spPr>
          <a:xfrm>
            <a:off x="38098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10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B92-5E7D-4AEC-8306-2D152336E1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Parallel Prefix Adder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466720" cy="10954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466720" cy="1381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2467080" cy="1724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9"/>
          <p:cNvSpPr/>
          <p:nvPr/>
        </p:nvSpPr>
        <p:spPr>
          <a:xfrm>
            <a:off x="142416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gge-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"/>
          <p:cNvSpPr/>
          <p:nvPr/>
        </p:nvSpPr>
        <p:spPr>
          <a:xfrm>
            <a:off x="1447920" y="5229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-Car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1"/>
          <p:cNvSpPr/>
          <p:nvPr/>
        </p:nvSpPr>
        <p:spPr>
          <a:xfrm>
            <a:off x="5257800" y="30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nt-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C65-1FE2-4FE2-BECE-AC7A0A8356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1640" y="388620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logic depth (delay) for complexity (area and pow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x 2, fan-i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uperset Adder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23960" cy="19526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4"/>
          <p:cNvSpPr/>
          <p:nvPr/>
        </p:nvSpPr>
        <p:spPr>
          <a:xfrm>
            <a:off x="1143000" y="3745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Full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2095560" cy="34671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04920" y="4571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controllability over prefix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Synopsys Overview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676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Straight Arrow Connector 5"/>
          <p:cNvCxnSpPr>
            <a:stCxn id="666" idx="3"/>
          </p:cNvCxnSpPr>
          <p:nvPr/>
        </p:nvCxnSpPr>
        <p:spPr>
          <a:xfrm>
            <a:off x="2971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68" name="Rectangle 6"/>
          <p:cNvSpPr/>
          <p:nvPr/>
        </p:nvSpPr>
        <p:spPr>
          <a:xfrm>
            <a:off x="3962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248520" y="167652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mized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8"/>
          <p:cNvCxnSpPr/>
          <p:nvPr/>
        </p:nvCxnSpPr>
        <p:spPr>
          <a:xfrm>
            <a:off x="5257800" y="213336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671" name="Straight Arrow Connector 9"/>
          <p:cNvCxnSpPr/>
          <p:nvPr/>
        </p:nvCxnSpPr>
        <p:spPr>
          <a:xfrm>
            <a:off x="6933960" y="2590560"/>
            <a:ext cx="1080" cy="5338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2" name="Rectangle 12"/>
          <p:cNvSpPr/>
          <p:nvPr/>
        </p:nvSpPr>
        <p:spPr>
          <a:xfrm>
            <a:off x="6248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VHDL in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Straight Arrow Connector 13"/>
          <p:cNvCxnSpPr>
            <a:endCxn id="674" idx="3"/>
          </p:cNvCxnSpPr>
          <p:nvPr/>
        </p:nvCxnSpPr>
        <p:spPr>
          <a:xfrm flipH="1">
            <a:off x="5257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4" name="Rectangle 16"/>
          <p:cNvSpPr/>
          <p:nvPr/>
        </p:nvSpPr>
        <p:spPr>
          <a:xfrm>
            <a:off x="3962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hetic Libr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Straight Arrow Connector 17"/>
          <p:cNvCxnSpPr/>
          <p:nvPr/>
        </p:nvCxnSpPr>
        <p:spPr>
          <a:xfrm flipH="1">
            <a:off x="2971440" y="3580920"/>
            <a:ext cx="991440" cy="1080"/>
          </a:xfrm>
          <a:prstGeom prst="straightConnector1">
            <a:avLst/>
          </a:prstGeom>
          <a:ln w="381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676" name="Rectangle 18"/>
          <p:cNvSpPr/>
          <p:nvPr/>
        </p:nvSpPr>
        <p:spPr>
          <a:xfrm>
            <a:off x="1676520" y="3124080"/>
            <a:ext cx="1295280" cy="9144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to DC Synthetic Library Pa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ABD9-8E2C-4A09-A7E1-2FF8CEE72F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Input and Synthesis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79" name="Picture 2" descr="C:\Users\Stevo Bailey\Downloads\mc.png"/>
          <p:cNvPicPr/>
          <p:nvPr/>
        </p:nvPicPr>
        <p:blipFill>
          <a:blip r:embed="rId1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C:\Users\Stevo Bailey\Downloads\code.png"/>
          <p:cNvPicPr/>
          <p:nvPr/>
        </p:nvPicPr>
        <p:blipFill>
          <a:blip r:embed="rId2"/>
          <a:stretch/>
        </p:blipFill>
        <p:spPr>
          <a:xfrm>
            <a:off x="380880" y="990720"/>
            <a:ext cx="4038840" cy="46353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8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73F-5520-4F89-A2DD-3EC4CDD5F9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Outpu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pic>
        <p:nvPicPr>
          <p:cNvPr id="685" name="Picture 2" descr="C:\Users\Stevo Bailey\Downloads\results.png"/>
          <p:cNvPicPr/>
          <p:nvPr/>
        </p:nvPicPr>
        <p:blipFill>
          <a:blip r:embed="rId1"/>
          <a:stretch/>
        </p:blipFill>
        <p:spPr>
          <a:xfrm>
            <a:off x="380880" y="990720"/>
            <a:ext cx="4040280" cy="4647960"/>
          </a:xfrm>
          <a:prstGeom prst="rect">
            <a:avLst/>
          </a:prstGeom>
          <a:ln w="0">
            <a:noFill/>
          </a:ln>
        </p:spPr>
      </p:pic>
      <p:sp>
        <p:nvSpPr>
          <p:cNvPr id="686" name="Oval 6"/>
          <p:cNvSpPr/>
          <p:nvPr/>
        </p:nvSpPr>
        <p:spPr>
          <a:xfrm>
            <a:off x="1447920" y="2819520"/>
            <a:ext cx="8380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C:\Users\Stevo Bailey\Downloads\vhdl.png"/>
          <p:cNvPicPr/>
          <p:nvPr/>
        </p:nvPicPr>
        <p:blipFill>
          <a:blip r:embed="rId2"/>
          <a:stretch/>
        </p:blipFill>
        <p:spPr>
          <a:xfrm>
            <a:off x="4724280" y="990720"/>
            <a:ext cx="4038840" cy="4627440"/>
          </a:xfrm>
          <a:prstGeom prst="rect">
            <a:avLst/>
          </a:prstGeom>
          <a:ln w="0">
            <a:noFill/>
          </a:ln>
        </p:spPr>
      </p:pic>
      <p:sp>
        <p:nvSpPr>
          <p:cNvPr id="688" name="Straight Connector 10"/>
          <p:cNvSpPr/>
          <p:nvPr/>
        </p:nvSpPr>
        <p:spPr>
          <a:xfrm flipV="1">
            <a:off x="1866960" y="990720"/>
            <a:ext cx="28573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1"/>
          <p:cNvSpPr/>
          <p:nvPr/>
        </p:nvSpPr>
        <p:spPr>
          <a:xfrm>
            <a:off x="1905120" y="3429000"/>
            <a:ext cx="281916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3808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4"/>
          <p:cNvSpPr/>
          <p:nvPr/>
        </p:nvSpPr>
        <p:spPr>
          <a:xfrm>
            <a:off x="4724280" y="5638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ompiler Output 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1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84E-9939-494F-A2E0-EE03A092C7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Stevo Bailey\Downloads\rpv_man.png"/>
          <p:cNvPicPr/>
          <p:nvPr/>
        </p:nvPicPr>
        <p:blipFill>
          <a:blip r:embed="rId1"/>
          <a:stretch/>
        </p:blipFill>
        <p:spPr>
          <a:xfrm>
            <a:off x="1371600" y="1066680"/>
            <a:ext cx="6400800" cy="443232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aramond"/>
              </a:rPr>
              <a:t>Module Compiler Relative Placement</a:t>
            </a:r>
            <a:endParaRPr b="0" lang="en-US" sz="4200" spc="-1" strike="noStrike">
              <a:solidFill>
                <a:srgbClr val="002060"/>
              </a:solidFill>
              <a:latin typeface="Garamond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lacement View (m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C3A-49FF-4479-A57F-0468F72270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41:00Z</dcterms:created>
  <dc:creator>Mehdi Kabir</dc:creator>
  <dc:description/>
  <dc:language>en-US</dc:language>
  <cp:lastModifiedBy>Stevo Bailey</cp:lastModifiedBy>
  <dcterms:modified xsi:type="dcterms:W3CDTF">2012-05-09T00:44:2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11033</vt:lpwstr>
  </property>
</Properties>
</file>